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7C8-CE22-4436-A235-0B05842D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6EE-4E9B-44F3-96A7-F634AB7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FC2-87CF-4966-BBDE-8CEE4B6B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CD7-BB0D-4D36-9684-D3071D83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AAF-5236-4F43-8A4D-98A8150F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D8E-1B68-46CD-8862-E620F85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5BB-DAFB-4ACC-8244-87019F2F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89B-4056-4FE9-8D6D-D88DCE7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A44-4588-4054-B051-731C79DA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B66-4C2F-44E3-A769-048D09B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3F7-D1F5-492C-901A-252C53D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B93-E0B3-490D-8FAA-9E50C70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A0C-2386-435B-855E-C3168682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rst Intifad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1987-19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the causes, events and consequences of the First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’ cause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Palestinian ‘weapon’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an deaths by Israeli forces during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 camp where the Intifada star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mins - 1.08min from ‘the 50 years war part 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 on the intif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ources B &amp;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irs pick the best 5 short quotes/statistics from each source and write them down on a piece of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are going to be split into two groups: one from the point of view of Source B, the other Sourc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‘quotes war’: You pick a quote and read it, the other group replies and I judge who ‘won’ the round and continue… Winning side get cho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rabic for ‘shaking off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translated as ‘rebellio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rst 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etrol bomb and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build my st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bear my revolu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y strength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land, my peop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 with the st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, burn the ty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up the barri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revolution, do not f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4120" y="2362320"/>
            <a:ext cx="3047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thod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00600" y="3809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jectiv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was the First Intif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wikip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was a mass Palestinian uprising against Israeli rule that began in the Jabalia refugee camp and quickly spread throughout Gaza, the West Bank and East Jerusal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620280"/>
            <a:ext cx="4392720" cy="5761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this poster from 1990 is saying, what do the boots, shapes and spikes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029120" cy="539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in pairs to gather information and make notes on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s (long, short and ‘trigger’)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nclud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rael’s respon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tional rea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First Intif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tems in bold should be your headings for your notes. You can use your textbook, the printed wikipedia article etc. Be careful, there is a lot of extremely one sided information ou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the Intif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9:11:58Z</dcterms:created>
  <dc:creator>Chris&amp;Kim</dc:creator>
  <dc:description/>
  <dc:language>en-US</dc:language>
  <cp:lastModifiedBy>Mr. Wright</cp:lastModifiedBy>
  <dcterms:modified xsi:type="dcterms:W3CDTF">2008-10-29T07:35:14Z</dcterms:modified>
  <cp:revision>13</cp:revision>
  <dc:subject/>
  <dc:title>The First Intifada</dc:title>
</cp:coreProperties>
</file>